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highchime.wav" ContentType="audio/x-wav"/>
  <Override PartName="/ppt/media/hzipup01.wav" ContentType="audio/x-wav"/>
  <Override PartName="/ppt/media/jetflyby2.wav" ContentType="audio/x-wav"/>
  <Override PartName="/ppt/media/bserie06.wav" ContentType="audio/x-wav"/>
  <Override PartName="/ppt/media/peopleooo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2604-01C8-4570-BBB2-BFD27441A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0778-262E-4CE3-8087-F7E11443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FB52-C1AC-457D-A20D-E054077F6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7004-7A08-422D-94AB-35AD6CB60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7231-C96F-4A1E-8832-F3B3E209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7817-82CE-4BFA-B18C-7326080E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8FFD-399C-4F5E-956D-2F0C87A4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5354-97EA-4058-8986-7003A29F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11F8-8E4C-4758-8D61-47C2154F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E6C1-7259-45D8-B575-71F9A2B6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03F6-D0D1-478C-BEC5-BB048D8B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DC49-85B0-42FB-B66F-EB486244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42E7-7EE9-4694-BD62-E506299A1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jetflyby2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hzipup01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hzipup01.wav"/><Relationship Id="rId15" Type="http://schemas.openxmlformats.org/officeDocument/2006/relationships/audio" Target="../media/zapbig0g.wav"/><Relationship Id="rId16" Type="http://schemas.openxmlformats.org/officeDocument/2006/relationships/audio" Target="../media/zapbig0g.wav"/><Relationship Id="rId17" Type="http://schemas.openxmlformats.org/officeDocument/2006/relationships/audio" Target="../media/zapbig0g.wav"/><Relationship Id="rId18" Type="http://schemas.openxmlformats.org/officeDocument/2006/relationships/audio" Target="../media/zapbig0g.wav"/><Relationship Id="rId19" Type="http://schemas.openxmlformats.org/officeDocument/2006/relationships/audio" Target="../media/peopleooo.wav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hzipup01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hzipup01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zapbig0g.wav"/><Relationship Id="rId16" Type="http://schemas.openxmlformats.org/officeDocument/2006/relationships/audio" Target="../media/peopleooo.wav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hzipup01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hzipup01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zapbig0g.wav"/><Relationship Id="rId16" Type="http://schemas.openxmlformats.org/officeDocument/2006/relationships/audio" Target="../media/peopleooo.wav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hzipup01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peopleooo.wav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47760" y="1925640"/>
            <a:ext cx="4019400" cy="23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1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Find the Are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1511280"/>
            <a:ext cx="90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.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646360"/>
            <a:ext cx="16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12 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13000" y="1285920"/>
            <a:ext cx="16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17 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2920" y="1882800"/>
            <a:ext cx="117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2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29360" y="3378240"/>
            <a:ext cx="1292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40560" y="2538360"/>
            <a:ext cx="17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32520" y="2738520"/>
            <a:ext cx="76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Lucida Sans Unicode"/>
                <a:ea typeface="Lucida Sans Unicode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2520" y="32274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562800" y="32418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6160" y="12733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90600" y="4762440"/>
            <a:ext cx="2219400" cy="91692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204 m</a:t>
            </a:r>
            <a:r>
              <a:rPr b="0" lang="en-US" sz="4000" spc="-1" strike="noStrike" baseline="60000">
                <a:solidFill>
                  <a:srgbClr val="80008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247760" y="1936800"/>
          <a:ext cx="4022640" cy="2361960"/>
        </p:xfrm>
        <a:graphic>
          <a:graphicData uri="http://schemas.openxmlformats.org/drawingml/2006/table">
            <a:tbl>
              <a:tblPr/>
              <a:tblGrid>
                <a:gridCol w="236520"/>
                <a:gridCol w="236520"/>
                <a:gridCol w="236520"/>
                <a:gridCol w="237960"/>
                <a:gridCol w="233280"/>
                <a:gridCol w="239760"/>
                <a:gridCol w="236520"/>
                <a:gridCol w="236520"/>
                <a:gridCol w="235080"/>
                <a:gridCol w="236520"/>
                <a:gridCol w="236520"/>
                <a:gridCol w="239760"/>
                <a:gridCol w="233280"/>
                <a:gridCol w="238320"/>
                <a:gridCol w="236520"/>
                <a:gridCol w="236520"/>
                <a:gridCol w="23652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6515280" y="379080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45200" y="38052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22880" y="4589640"/>
            <a:ext cx="129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45480" y="448632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35800" y="44877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41960" y="33210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19640" y="44816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247760" y="1925640"/>
            <a:ext cx="4019400" cy="23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1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Find the Are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9680" y="1511280"/>
            <a:ext cx="90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2.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646360"/>
            <a:ext cx="16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14 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3000" y="1285920"/>
            <a:ext cx="16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19 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2920" y="1882800"/>
            <a:ext cx="117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4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29360" y="3378240"/>
            <a:ext cx="1292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40560" y="2538360"/>
            <a:ext cx="17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32520" y="2738520"/>
            <a:ext cx="76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Lucida Sans Unicode"/>
                <a:ea typeface="Lucida Sans Unicode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932520" y="32274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56360" y="3241800"/>
            <a:ext cx="94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626160" y="12733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90600" y="4762440"/>
            <a:ext cx="2219400" cy="91692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266 m</a:t>
            </a:r>
            <a:r>
              <a:rPr b="0" lang="en-US" sz="4000" spc="-1" strike="noStrike" baseline="60000">
                <a:solidFill>
                  <a:srgbClr val="80008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15280" y="379080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45200" y="38052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22880" y="4589640"/>
            <a:ext cx="129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45480" y="448632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35800" y="44877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19640" y="44816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47760" y="1925640"/>
            <a:ext cx="4019400" cy="23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1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Find the Are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9680" y="1511280"/>
            <a:ext cx="90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3.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646360"/>
            <a:ext cx="16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16 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13000" y="1285920"/>
            <a:ext cx="16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20 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22920" y="1882800"/>
            <a:ext cx="117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0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29360" y="3378240"/>
            <a:ext cx="1292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40560" y="2538360"/>
            <a:ext cx="17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32520" y="2738520"/>
            <a:ext cx="76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Lucida Sans Unicode"/>
                <a:ea typeface="Lucida Sans Unicode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932520" y="32274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56360" y="3241800"/>
            <a:ext cx="94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90600" y="4762440"/>
            <a:ext cx="2219400" cy="91692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320 ft</a:t>
            </a:r>
            <a:r>
              <a:rPr b="0" lang="en-US" sz="4000" spc="-1" strike="noStrike" baseline="60000">
                <a:solidFill>
                  <a:srgbClr val="80008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15280" y="379080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45200" y="38052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22880" y="4589640"/>
            <a:ext cx="129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45480" y="448632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35800" y="44877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19640" y="44816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247760" y="1925640"/>
            <a:ext cx="4019400" cy="1554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1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Find the Are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9680" y="1511280"/>
            <a:ext cx="90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4.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3040" y="2270160"/>
            <a:ext cx="16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7 y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13000" y="1285920"/>
            <a:ext cx="16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21 y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2920" y="1882800"/>
            <a:ext cx="117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1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29360" y="3378240"/>
            <a:ext cx="1292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40560" y="2538360"/>
            <a:ext cx="17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32520" y="2738520"/>
            <a:ext cx="76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Lucida Sans Unicode"/>
                <a:ea typeface="Lucida Sans Unicode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2520" y="32274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3241800"/>
            <a:ext cx="94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90600" y="4762440"/>
            <a:ext cx="2408400" cy="91692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47 yd</a:t>
            </a:r>
            <a:r>
              <a:rPr b="0" lang="en-US" sz="4000" spc="-1" strike="noStrike" baseline="60000">
                <a:solidFill>
                  <a:srgbClr val="80008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53828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55, 2 – 11 #1-9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1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5-09-02T16:44:31Z</dcterms:modified>
  <cp:revision>58</cp:revision>
  <dc:subject/>
  <dc:title>Slide 1</dc:title>
</cp:coreProperties>
</file>